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77256"/>
        <c:axId val="21907259"/>
      </c:barChart>
      <c:catAx>
        <c:axId val="22677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07259"/>
        <c:crosses val="autoZero"/>
        <c:auto val="1"/>
        <c:lblAlgn val="ctr"/>
        <c:lblOffset val="100"/>
        <c:noMultiLvlLbl val="0"/>
      </c:catAx>
      <c:valAx>
        <c:axId val="21907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77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5FE-B06A-42FE-8F6C-A138A42D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166-FFE7-466D-989C-788CBE9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07E-2034-4ECB-89BC-E812FD06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BB1-D33A-4D9F-AB1A-7E051EB9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DE1-12AA-4376-8A96-A6703332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C03-FF2E-481B-B048-368DDF2F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585-7961-4297-B00F-50AD033C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F35-FFBF-4067-965A-32A66257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D7E-672B-43AC-88F1-A8877FD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F91-D78C-4211-9230-995F722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AE8-E79E-4F62-994A-ACDF1D7F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5A5-C6C9-45B4-9E42-C861B4FA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B3438-2599-4AE9-8B15-4424221FD9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