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52981"/>
        <c:axId val="99649733"/>
      </c:barChart>
      <c:catAx>
        <c:axId val="91652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49733"/>
        <c:crosses val="autoZero"/>
        <c:auto val="1"/>
        <c:lblAlgn val="ctr"/>
        <c:lblOffset val="100"/>
        <c:noMultiLvlLbl val="0"/>
      </c:catAx>
      <c:valAx>
        <c:axId val="99649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52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5B4-FACD-4D80-B798-38AE9327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653-1B58-41D4-8F6C-3D492F8F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6D9-0E9B-456F-842B-3791D3CD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514-C4C6-4E31-A3C7-B87D2062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C82-D135-474F-A086-00CE44A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CA1-43ED-42D8-815C-DF24FD09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57C-8F7C-453B-BFFD-6041EA6F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638-1887-40E9-B829-8D99EFC6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D3A9-1B07-42DE-8BB4-EA269472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28D-9428-4BD6-B765-AE1B37D6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17C-72A1-403F-8243-D9DAB7BA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8D9-E609-48D3-9694-FF29F374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51046-36E3-4A54-8B81-740E6F4A2A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