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06953"/>
        <c:axId val="88691566"/>
      </c:barChart>
      <c:catAx>
        <c:axId val="92706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91566"/>
        <c:crosses val="autoZero"/>
        <c:auto val="1"/>
        <c:lblAlgn val="ctr"/>
        <c:lblOffset val="100"/>
        <c:noMultiLvlLbl val="0"/>
      </c:catAx>
      <c:valAx>
        <c:axId val="88691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06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F0B-F809-4CA5-86BE-18EC24F4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9FD-519D-437B-88A6-9D3409A8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D94-441A-41EE-93E8-665B14DE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0E3-0B9E-4315-8FD5-4260A03F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791-CB79-43E7-862E-FBC01048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A67-D948-4254-80A0-51441C1B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4AB-F829-4B8B-B735-23E965BF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D4F-919A-4A3F-A1A0-66283C16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C26-32DE-4DB0-B91F-EACD95F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C1D-96B6-4A0B-8AA8-486E989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74D-C5CE-4654-911D-44758846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EC5-0223-4347-BC56-18193F0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C62CE-3D53-489B-B50B-BAE3DBBAE3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